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3F8-035A-4510-BF9A-1FEB0017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B77-E47E-4BCC-B768-C51CDD6C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C47-DF2E-40D4-8F32-A296CC62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9EF-82A1-4898-A116-8BCE3252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167-25B4-4DCB-8379-BA6C4501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B3A-7C59-491A-B7B6-7C944CC6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D87-BF51-4BBB-BBC6-E0F7B07C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14E-E8D6-4EA3-9310-711703D1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348-817E-4959-8CB3-28FA1613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23D-40C2-421D-BFA4-93B0B145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8E3-044B-41B7-8690-F3E04AD0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3AF-9E77-48C1-A0D1-836BE9D6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9A4C-F33D-43A2-8493-E70930C5A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6006960" cy="45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6:21:59Z</dcterms:created>
  <dc:creator>leypoldt</dc:creator>
  <dc:description/>
  <dc:language>en-US</dc:language>
  <cp:lastModifiedBy>leypoldt</cp:lastModifiedBy>
  <dcterms:modified xsi:type="dcterms:W3CDTF">2009-03-24T16:23:13Z</dcterms:modified>
  <cp:revision>1</cp:revision>
  <dc:subject/>
  <dc:title>Slide 1</dc:title>
</cp:coreProperties>
</file>